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587-C245-4B49-885A-F80A384A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4CB-7D8E-4FD9-9646-D52FDE7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DEF-AABD-4D51-8796-4CEB2D5D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49B-E8A0-4799-A7F4-690FC7B8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5801-321F-42C4-87F6-DD70FDC8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01C-2C73-4583-B09A-667C7BA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878B-F339-4F73-BEA7-493B0891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558-0D37-49FE-A8B0-5663CDF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6E0D-DA1D-40EE-977D-908ACD8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EFF2-B4A9-4FD9-8283-8AF9654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8591-30C6-4CB4-B931-2B3DFAF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49F-592B-4258-87E3-4C6491BB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C70E-C118-4A4D-B9FE-80E4E89F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8182-0AE7-42A9-BBC9-BAF2CD0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9CB2-9A6B-4437-B1FA-3FB933AA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F627-F86F-4432-8EA8-0A535CE3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988E-26AF-4A79-9705-8920FF0D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FCC-E990-4F5F-8DA4-E8D1050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E2D-1BCF-4A1C-AEBC-88B28EB9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DFC-B11D-4AA1-A239-D94AA43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A4E-4AAD-429C-8329-6AD3B563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5E6-BF15-4F28-862A-9C18EA3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C9A-7C9F-4827-BC27-116330C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D71-135B-4D6F-AE8D-FD5D8CE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102-24EF-4EC4-884A-029BE562B6D0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8FE7-BEF1-4EE4-ADA6-DE9DD871B8EF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22419"/>
          <a:stretch/>
        </p:blipFill>
        <p:spPr>
          <a:xfrm>
            <a:off x="1676520" y="0"/>
            <a:ext cx="6011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rebuchet MS"/>
              </a:rPr>
              <a:t>War Communism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2037" t="18859" r="1633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What was War Communism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economic system that existed from 1918 to 192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roduced by Lenin to combat the economic problems brought on by civil w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bination of emergency measures and socialist belief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tempted to abolish money as a means of exch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od and most commodities were ration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0" r="6249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Nationalization (run by the state, government decides what is produced) of land, banks, shipping &amp; distribution of foo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overnment had the power to force men and women to do work in certain indust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Discipline for workers was strict: strikers could be sho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Military-like control of railway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Soldiers were sent to requisition g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War Communism took away a lot of the freedoms the people had gained in the October Revol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873160" cy="2041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Effects of War Communis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asants refused to hand over grain, and grew only enough food for themselves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 industrial cities were starved of foo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lnutrition was common: 3.5 million people died of typhoid alo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orkers moved to the countryside, where there was a higher chance of getting foo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ween 1916-1920, cities lost 33% of population to the countrys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umber of those working in factories and mines dropped by 50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8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uble collapsed and was replaced by a system of bart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1921 the heavy industry had fallen to output levels 20% of those in 191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economy was in ruins, inflation out of contro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od requisitioning, combined with the effects of 7 years of war and a severe drought contributed to a famine in 1921 that caused between 3 and 10 million death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were convinced that their leaders were right and everything  was the Whites’ and international capitalists’ faul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3880" y="12949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asant uprisings 1920-2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yone involved in riots, workers’ strikes and demonstrations were arres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ded with the Kronstadt rebellion in 192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 the end of War Communism, Lenin introduced the NE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304920"/>
            <a:ext cx="2738160" cy="426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6019920" y="3581280"/>
            <a:ext cx="53316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37:57Z</dcterms:created>
  <dc:creator>Tina Kanagaratnam</dc:creator>
  <dc:description/>
  <dc:language>en-US</dc:language>
  <cp:lastModifiedBy>Tina Kanagaratnam</cp:lastModifiedBy>
  <cp:lastPrinted>1904-01-01T00:00:00Z</cp:lastPrinted>
  <dcterms:modified xsi:type="dcterms:W3CDTF">2007-11-07T03:34:14Z</dcterms:modified>
  <cp:revision>8</cp:revision>
  <dc:subject/>
  <dc:title>War Communism</dc:title>
</cp:coreProperties>
</file>